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D3D-A70F-474C-94AF-94962F3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3ED-61C8-45BD-98D6-B9613DD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483-66D3-4A2E-8577-5F816604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6DC-CC89-4EF2-836B-CE6E04C0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BFC-7729-455B-9449-FAC08C4C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EC00-9514-46D7-88E0-E5525E4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B88-0D57-4477-8BDE-A8B9C987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521B-3A0E-43C4-8077-4260EA08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28C9-DF12-443D-B6B1-95587A0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BD5-BD42-4E3B-8173-B40E991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B233-7608-4040-BABA-1F1861D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059-9131-4768-AEFC-A490391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099-141D-4ED5-B0AE-CCC4152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D44F-04F5-4BBC-BEBE-F6EB5B5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B099-95E9-419A-9F63-9F85194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2B6-7037-4942-A6D2-97DA81FD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3EAE-8BB3-4119-87A4-696347DA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8C8-C1F8-43EE-9C6B-CEEA317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F81-85E5-4B58-B991-F50D4BD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B98-8DF5-48BC-B229-A0DE1D2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47B-0BFB-4A18-AB3A-0134CA5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BC3-0510-48F4-BF86-2B332BB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29D-3FA1-45FC-9B89-C8DFEAE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090-D0D8-45C1-A15C-02C066C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32E-8BDD-49CB-B5ED-3ED6FBCF0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5854-F34E-4AB8-8807-848C01193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0:48:31Z</dcterms:modified>
  <cp:revision>2</cp:revision>
  <dc:subject/>
  <dc:title>Slide 1</dc:title>
</cp:coreProperties>
</file>